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B3B-BC83-40E3-8338-8DBD3CB6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9EA-45A1-41D9-AECC-30382EA9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1CB-C544-4BA6-882A-8B6946AF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9D5-4BEC-4B96-A57C-6BA5CD6E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BBFF-97A0-48CF-8181-E2DD5A93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4FB1-F37E-4656-AC4D-C9312C56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9374-4756-4EE6-8197-638B0EAA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5FA5-E578-4151-9625-1E629DB5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5626-76F1-45D9-81B9-AA916318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AEAE-D872-46B0-BDE9-31A2EB16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8092-35A9-41D0-99BB-110B0B7B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C87-D535-4A50-81C5-5116C313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D1AB-CE9F-49E2-A997-D18B278C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CFC6-030B-4641-AFA4-72196DFF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5A26-905B-40BC-B19B-D3FEED11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2637-610F-4E17-B5D8-45871003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A659-97CE-4563-8AF3-2A202570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6B1-3413-4761-A25E-479E9DF8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053-64BB-4140-B4ED-AEDC754D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79C-0DD6-4417-9AD9-4EE37CDA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3666-3DC6-4B83-A8AC-C525D2B8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FBD-DE0D-4BDA-B03C-9315C3DF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EC8-DBF2-4076-AFF7-13CA5801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837-A4A7-46BD-9518-B0E91FD9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4E87-8EFF-434F-AF31-1776481E688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CA89-2BB7-425D-A565-B9C20AE3D89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oVXD4D1y5k" TargetMode="External"/><Relationship Id="rId2" Type="http://schemas.openxmlformats.org/officeDocument/2006/relationships/hyperlink" Target="file:///Carbon%20Capture%20Chall_CleanCoal_Lateline_16apr2009.wmv" TargetMode="External"/><Relationship Id="rId3" Type="http://schemas.openxmlformats.org/officeDocument/2006/relationships/hyperlink" Target="http://www.youtube.com/watch?v=1tAtIkcPg00&amp;feature=related" TargetMode="External"/><Relationship Id="rId4" Type="http://schemas.openxmlformats.org/officeDocument/2006/relationships/hyperlink" Target="http://www.youtube.com/watch?v=W4-jpOq3ytU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c0c0"/>
                </a:solidFill>
                <a:latin typeface="Gill Sans Ultra Bold"/>
              </a:rPr>
              <a:t>COAL</a:t>
            </a:r>
            <a:endParaRPr b="0" lang="en-US" sz="96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143080" y="2571840"/>
            <a:ext cx="44672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812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Gill Sans Ultra Bold"/>
              </a:rPr>
              <a:t>Coal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0040" y="1642680"/>
            <a:ext cx="39290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y Yang: Victoria's largest energy producing plant, supplies 1/3 of the State's electricity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elwood is a controversial power station. It received a $500 million upgrade, but pollution from Hazelwood increased by 2.7 per cent between 1998 and 2004,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ource: study by Environment Victoria: Greenhouse Pollution Intensity in the Victorian Brown Coal Industry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2" descr="C:\Documents and Settings\Douley\Local Settings\Temporary Internet Files\Content.IE5\T4V9CISJ\MCj03525880000[1].wmf"/>
          <p:cNvPicPr/>
          <p:nvPr/>
        </p:nvPicPr>
        <p:blipFill>
          <a:blip r:embed="rId1"/>
          <a:stretch/>
        </p:blipFill>
        <p:spPr>
          <a:xfrm>
            <a:off x="5643720" y="285840"/>
            <a:ext cx="1228680" cy="1208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C:\Documents and Settings\Douley\Local Settings\Temporary Internet Files\Content.IE5\N42T0A6R\MCSY00605_0000[1].wmf"/>
          <p:cNvPicPr/>
          <p:nvPr/>
        </p:nvPicPr>
        <p:blipFill>
          <a:blip r:embed="rId2"/>
          <a:stretch/>
        </p:blipFill>
        <p:spPr>
          <a:xfrm>
            <a:off x="2857680" y="357120"/>
            <a:ext cx="857160" cy="1197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3"/>
          <a:stretch/>
        </p:blipFill>
        <p:spPr>
          <a:xfrm>
            <a:off x="4429080" y="1714680"/>
            <a:ext cx="44769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0c0c0"/>
                </a:solidFill>
                <a:latin typeface="Arial"/>
              </a:rPr>
              <a:t>Copy in workbook:</a:t>
            </a:r>
            <a:br>
              <a:rPr sz="4000"/>
            </a:br>
            <a:r>
              <a:rPr b="0" lang="en-AU" sz="4000" spc="-1" strike="noStrike">
                <a:solidFill>
                  <a:srgbClr val="c0c0c0"/>
                </a:solidFill>
                <a:latin typeface="Arial"/>
              </a:rPr>
              <a:t>Adv / Disadv of coal: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84800" cy="49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Gill Sans Ultra Bold"/>
              </a:rPr>
              <a:t>“</a:t>
            </a:r>
            <a:r>
              <a:rPr b="0" lang="en-US" sz="4400" spc="-1" strike="noStrike">
                <a:solidFill>
                  <a:srgbClr val="c0c0c0"/>
                </a:solidFill>
                <a:latin typeface="Gill Sans Ultra Bold"/>
              </a:rPr>
              <a:t>Clean Coal”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oes it 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oes it have a fut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at is the government do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hould Australia invest in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atch videos: Al Gore, Late Line, Explanation of Clean Coal, “HowstuffWork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2" descr="C:\Documents and Settings\Douley\Local Settings\Temporary Internet Files\Content.IE5\T4V9CISJ\MCj03525880000[1].wmf"/>
          <p:cNvPicPr/>
          <p:nvPr/>
        </p:nvPicPr>
        <p:blipFill>
          <a:blip r:embed="rId1"/>
          <a:stretch/>
        </p:blipFill>
        <p:spPr>
          <a:xfrm>
            <a:off x="7236000" y="260280"/>
            <a:ext cx="1228680" cy="1208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C:\Documents and Settings\Douley\Local Settings\Temporary Internet Files\Content.IE5\N42T0A6R\MCSY00605_0000[1].wmf"/>
          <p:cNvPicPr/>
          <p:nvPr/>
        </p:nvPicPr>
        <p:blipFill>
          <a:blip r:embed="rId2"/>
          <a:stretch/>
        </p:blipFill>
        <p:spPr>
          <a:xfrm>
            <a:off x="1116000" y="260280"/>
            <a:ext cx="857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Video links: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c458"/>
                </a:solidFill>
                <a:uFillTx/>
                <a:latin typeface="Arial"/>
                <a:hlinkClick r:id="rId1"/>
              </a:rPr>
              <a:t>http://www.youtube.com/watch?v=goVXD4D1y5k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3:36 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c458"/>
                </a:solidFill>
                <a:uFillTx/>
                <a:latin typeface="Arial"/>
                <a:hlinkClick r:id="rId2"/>
              </a:rPr>
              <a:t>Carbon Capture Chall_CleanCoal_Lateline_16apr2009.wm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:10 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ac458"/>
                </a:solidFill>
                <a:uFillTx/>
                <a:latin typeface="Arial"/>
                <a:hlinkClick r:id="rId3"/>
              </a:rPr>
              <a:t>http://www.youtube.com/watch?v=1tAtIkcPg00&amp;feature=related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What is clean coal (3:5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Gore on Clean Coal:  </a:t>
            </a:r>
            <a:r>
              <a:rPr b="0" lang="en-US" sz="2400" spc="-1" strike="noStrike" u="sng">
                <a:solidFill>
                  <a:srgbClr val="fac458"/>
                </a:solidFill>
                <a:uFillTx/>
                <a:latin typeface="Arial"/>
                <a:hlinkClick r:id="rId4"/>
              </a:rPr>
              <a:t>http://www.youtube.com/watch?v=W4-jpOq3ytU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(5:10 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Gill Sans Ultra Bold"/>
              </a:rPr>
              <a:t>Coal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ustralia is rich in natural resourc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etroleu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atural gas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al res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al is one of Australia's most important mineral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ustralia’s energy consumption is dominated by coal, it fuels most of the country’s power generat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ustralia is the world’s largest coal expor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: http://www.eia.doe.gov/emeu/cabs/Australia/Background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C:\Documents and Settings\Douley\Local Settings\Temporary Internet Files\Content.IE5\T4V9CISJ\MCj03525880000[1].wmf"/>
          <p:cNvPicPr/>
          <p:nvPr/>
        </p:nvPicPr>
        <p:blipFill>
          <a:blip r:embed="rId1"/>
          <a:stretch/>
        </p:blipFill>
        <p:spPr>
          <a:xfrm>
            <a:off x="5643720" y="285840"/>
            <a:ext cx="1228680" cy="1208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Documents and Settings\Douley\Local Settings\Temporary Internet Files\Content.IE5\N42T0A6R\MCSY00605_0000[1].wmf"/>
          <p:cNvPicPr/>
          <p:nvPr/>
        </p:nvPicPr>
        <p:blipFill>
          <a:blip r:embed="rId2"/>
          <a:stretch/>
        </p:blipFill>
        <p:spPr>
          <a:xfrm>
            <a:off x="2857680" y="357120"/>
            <a:ext cx="857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A coal fired power station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341000"/>
            <a:ext cx="868824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than 40% of the energy in coal is converted to electric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station flue gases are filtered to remove dust and then vented to the atmosphe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gases contain 10 to 20% CO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NK3956 - Conventional coal-fired power station"/>
          <p:cNvPicPr/>
          <p:nvPr/>
        </p:nvPicPr>
        <p:blipFill>
          <a:blip r:embed="rId1"/>
          <a:stretch/>
        </p:blipFill>
        <p:spPr>
          <a:xfrm>
            <a:off x="1908000" y="4076640"/>
            <a:ext cx="58327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How does a coal fired power plant work?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al is crushed to a fine dust and burnt. Oil and gas can be burnt direc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urn fuel&gt; heat water to make steam&gt; steam turns turbine&gt;turbine turns generator&gt;electrical power sent around the count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3164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Content Placeholder 4" descr="australia_coal_field.jpg"/>
          <p:cNvPicPr/>
          <p:nvPr/>
        </p:nvPicPr>
        <p:blipFill>
          <a:blip r:embed="rId1"/>
          <a:stretch/>
        </p:blipFill>
        <p:spPr>
          <a:xfrm>
            <a:off x="954000" y="428760"/>
            <a:ext cx="647568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8072640" cy="5076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71680" y="528588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of reasons why our export of coal continues to ri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To which countries do we export our coal?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7" name="Picture 1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Gill Sans Ultra Bold"/>
              </a:rPr>
              <a:t>Coal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forms of coal are mined in Australia, depending on the region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quality black co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quality brown co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lack coal: Queensland and New South Wa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for power generation and export.  Mined under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own coal: Victoria and South Australia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quality due a higher ash and water content. Victoria uses coal as its main source of energy generation. There are three open cut brown coal mines in Victo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C:\Documents and Settings\Douley\Local Settings\Temporary Internet Files\Content.IE5\T4V9CISJ\MCj03525880000[1].wmf"/>
          <p:cNvPicPr/>
          <p:nvPr/>
        </p:nvPicPr>
        <p:blipFill>
          <a:blip r:embed="rId1"/>
          <a:stretch/>
        </p:blipFill>
        <p:spPr>
          <a:xfrm>
            <a:off x="5643720" y="285840"/>
            <a:ext cx="1228680" cy="1208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Documents and Settings\Douley\Local Settings\Temporary Internet Files\Content.IE5\N42T0A6R\MCSY00605_0000[1].wmf"/>
          <p:cNvPicPr/>
          <p:nvPr/>
        </p:nvPicPr>
        <p:blipFill>
          <a:blip r:embed="rId2"/>
          <a:stretch/>
        </p:blipFill>
        <p:spPr>
          <a:xfrm>
            <a:off x="2857680" y="357120"/>
            <a:ext cx="857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Gill Sans Ultra Bold"/>
              </a:rPr>
              <a:t>Coal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857240"/>
            <a:ext cx="36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most all of Victoria’s brown coal is mined and transformed into electricity in the LaTrobe Vall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tralia's biggest coal power stations are in the Latrobe Valle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y Yang Power 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zelwood Power 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well Power 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allourn Power 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C:\Documents and Settings\Douley\Local Settings\Temporary Internet Files\Content.IE5\T4V9CISJ\MCj03525880000[1].wmf"/>
          <p:cNvPicPr/>
          <p:nvPr/>
        </p:nvPicPr>
        <p:blipFill>
          <a:blip r:embed="rId1"/>
          <a:stretch/>
        </p:blipFill>
        <p:spPr>
          <a:xfrm>
            <a:off x="5643720" y="285840"/>
            <a:ext cx="1228680" cy="1208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Documents and Settings\Douley\Local Settings\Temporary Internet Files\Content.IE5\N42T0A6R\MCSY00605_0000[1].wmf"/>
          <p:cNvPicPr/>
          <p:nvPr/>
        </p:nvPicPr>
        <p:blipFill>
          <a:blip r:embed="rId2"/>
          <a:stretch/>
        </p:blipFill>
        <p:spPr>
          <a:xfrm>
            <a:off x="2857680" y="357120"/>
            <a:ext cx="857160" cy="1197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Australia-Map-VIC-LGA-Latrobe.png"/>
          <p:cNvPicPr/>
          <p:nvPr/>
        </p:nvPicPr>
        <p:blipFill>
          <a:blip r:embed="rId3"/>
          <a:stretch/>
        </p:blipFill>
        <p:spPr>
          <a:xfrm>
            <a:off x="4286160" y="1928880"/>
            <a:ext cx="4500720" cy="327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00:18:42Z</dcterms:created>
  <dc:creator>vanweringhdoulisi</dc:creator>
  <dc:description/>
  <dc:language>en-US</dc:language>
  <cp:lastModifiedBy>vanweringhdoulisi</cp:lastModifiedBy>
  <dcterms:modified xsi:type="dcterms:W3CDTF">2009-08-05T09:59:13Z</dcterms:modified>
  <cp:revision>15</cp:revision>
  <dc:subject/>
  <dc:title>Slide 1</dc:title>
</cp:coreProperties>
</file>